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4ED5-3D2F-4BAD-A791-21426307F12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1F37-B8A0-47FD-85E3-AC3B8AA467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59C-A5AD-42DC-8E9D-62F5EF79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C45-81D3-43AE-8B92-C24DC9D7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B87-DA17-4239-A864-7BEB14EC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0F8-1153-4D53-AB89-2FB0469F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072-846A-431D-BC43-530D4876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2A3-6F58-49A6-92E9-844DFAD4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1F3-DC06-4026-9D43-8E097E13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530-261D-4D74-A452-5CC3BF5B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72B-2994-4B95-AE90-814470D9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3E0-D9EC-4091-A6EF-DA3AE456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2C0-08EB-4577-BB62-73BBD011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30D-E248-4DBF-B9A0-98C9E80D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51EA-A3A9-40A8-99DB-6BE7FC1940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Współrzędne jednor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we współrzędnych jednorodny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642960" y="2000160"/>
                <a:ext cx="1986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7"/>
          <p:cNvSpPr/>
          <p:nvPr/>
        </p:nvSpPr>
        <p:spPr>
          <a:xfrm>
            <a:off x="3371040" y="3286080"/>
            <a:ext cx="26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Scalef(0.5,1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jednorodnego we wszystkich kie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677880" y="2000160"/>
                <a:ext cx="19159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s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 = „ujemne skalowanie”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712800" y="2000160"/>
                <a:ext cx="1844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472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obrotu we współrzędnych jednorodnych rozkładana jest na obroty wokół os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kąty Euler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a 16"/>
          <p:cNvGrpSpPr/>
          <p:nvPr/>
        </p:nvGrpSpPr>
        <p:grpSpPr>
          <a:xfrm>
            <a:off x="785880" y="4429080"/>
            <a:ext cx="5705280" cy="2184840"/>
            <a:chOff x="785880" y="4429080"/>
            <a:chExt cx="5705280" cy="2184840"/>
          </a:xfrm>
        </p:grpSpPr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785880" y="4429080"/>
                  <a:ext cx="276696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4"/>
                <p:cNvSpPr txBox="1"/>
                <p:nvPr/>
              </p:nvSpPr>
              <p:spPr>
                <a:xfrm>
                  <a:off x="3701880" y="4429080"/>
                  <a:ext cx="278928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pole tekstowe 10"/>
            <p:cNvSpPr/>
            <p:nvPr/>
          </p:nvSpPr>
          <p:spPr>
            <a:xfrm>
              <a:off x="109944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ole tekstowe 11"/>
            <p:cNvSpPr/>
            <p:nvPr/>
          </p:nvSpPr>
          <p:spPr>
            <a:xfrm>
              <a:off x="402336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820800" y="250020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pole tekstowe 13"/>
          <p:cNvSpPr/>
          <p:nvPr/>
        </p:nvSpPr>
        <p:spPr>
          <a:xfrm>
            <a:off x="3659760" y="250020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kąt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kół os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14920" y="4143240"/>
          <a:ext cx="4071960" cy="2378160"/>
        </p:xfrm>
        <a:graphic>
          <a:graphicData uri="http://schemas.openxmlformats.org/drawingml/2006/table">
            <a:tbl>
              <a:tblPr/>
              <a:tblGrid>
                <a:gridCol w="1000080"/>
                <a:gridCol w="1571760"/>
                <a:gridCol w="15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ąt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9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kąt 45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714240" y="2000160"/>
                <a:ext cx="3122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pole tekstowe 15"/>
          <p:cNvSpPr/>
          <p:nvPr/>
        </p:nvSpPr>
        <p:spPr>
          <a:xfrm>
            <a:off x="3001680" y="4000680"/>
            <a:ext cx="511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z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18"/>
          <p:cNvSpPr/>
          <p:nvPr/>
        </p:nvSpPr>
        <p:spPr>
          <a:xfrm>
            <a:off x="3014640" y="400068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45,0,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17" descr="ObrotZ.jpg"/>
          <p:cNvPicPr/>
          <p:nvPr/>
        </p:nvPicPr>
        <p:blipFill>
          <a:blip r:embed="rId1"/>
          <a:stretch/>
        </p:blipFill>
        <p:spPr>
          <a:xfrm>
            <a:off x="285840" y="1463760"/>
            <a:ext cx="85770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X o kąt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5"/>
          <p:cNvSpPr/>
          <p:nvPr/>
        </p:nvSpPr>
        <p:spPr>
          <a:xfrm>
            <a:off x="3714840" y="2928960"/>
            <a:ext cx="542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r=a*M_PI/180.0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x[16]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x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00040" y="2000160"/>
                <a:ext cx="27669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pole tekstowe 7"/>
          <p:cNvSpPr/>
          <p:nvPr/>
        </p:nvSpPr>
        <p:spPr>
          <a:xfrm>
            <a:off x="3728880" y="214308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#include &lt;math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ole tekstowe 8"/>
          <p:cNvSpPr/>
          <p:nvPr/>
        </p:nvSpPr>
        <p:spPr>
          <a:xfrm>
            <a:off x="3799440" y="2928960"/>
            <a:ext cx="27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 floa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a,1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17" descr="ObrotZ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7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chyl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pochylenia  (ang.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ew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y pozadiagon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e ma odpowiednika w funkcjach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a 7"/>
          <p:cNvGrpSpPr/>
          <p:nvPr/>
        </p:nvGrpSpPr>
        <p:grpSpPr>
          <a:xfrm>
            <a:off x="785880" y="3143160"/>
            <a:ext cx="7964280" cy="3284640"/>
            <a:chOff x="785880" y="3143160"/>
            <a:chExt cx="7964280" cy="3284640"/>
          </a:xfrm>
        </p:grpSpPr>
        <p:pic>
          <p:nvPicPr>
            <p:cNvPr id="134" name="Obraz 6" descr="Pochylenie.jpg"/>
            <p:cNvPicPr/>
            <p:nvPr/>
          </p:nvPicPr>
          <p:blipFill>
            <a:blip r:embed="rId1"/>
            <a:stretch/>
          </p:blipFill>
          <p:spPr>
            <a:xfrm>
              <a:off x="3035160" y="314316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5" name="Object 6"/>
                <p:cNvSpPr txBox="1"/>
                <p:nvPr/>
              </p:nvSpPr>
              <p:spPr>
                <a:xfrm>
                  <a:off x="785880" y="3143160"/>
                  <a:ext cx="189072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Grupa 8"/>
          <p:cNvGrpSpPr/>
          <p:nvPr/>
        </p:nvGrpSpPr>
        <p:grpSpPr>
          <a:xfrm>
            <a:off x="571680" y="3143160"/>
            <a:ext cx="8153280" cy="3294000"/>
            <a:chOff x="571680" y="3143160"/>
            <a:chExt cx="8153280" cy="3294000"/>
          </a:xfrm>
        </p:grpSpPr>
        <p:pic>
          <p:nvPicPr>
            <p:cNvPr id="137" name="Obraz 9" descr="Pochylenie.jpg"/>
            <p:cNvPicPr/>
            <p:nvPr/>
          </p:nvPicPr>
          <p:blipFill>
            <a:blip r:embed="rId2"/>
            <a:stretch/>
          </p:blipFill>
          <p:spPr>
            <a:xfrm>
              <a:off x="3009960" y="315252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8" name="Object 5"/>
                <p:cNvSpPr txBox="1"/>
                <p:nvPr/>
              </p:nvSpPr>
              <p:spPr>
                <a:xfrm>
                  <a:off x="571680" y="3143160"/>
                  <a:ext cx="210348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translacji we współrzędnych jednoro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Macierz"/>
              <p:cNvSpPr txBox="1"/>
              <p:nvPr/>
            </p:nvSpPr>
            <p:spPr>
              <a:xfrm>
                <a:off x="1143000" y="2071800"/>
                <a:ext cx="174960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Macierz z liczbami"/>
              <p:cNvSpPr txBox="1"/>
              <p:nvPr/>
            </p:nvSpPr>
            <p:spPr>
              <a:xfrm>
                <a:off x="1143000" y="2071800"/>
                <a:ext cx="18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pole tekstowe 9"/>
          <p:cNvSpPr/>
          <p:nvPr/>
        </p:nvSpPr>
        <p:spPr>
          <a:xfrm>
            <a:off x="3571920" y="4286160"/>
            <a:ext cx="5000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T[16]={1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ole tekstowe 10"/>
          <p:cNvSpPr/>
          <p:nvPr/>
        </p:nvSpPr>
        <p:spPr>
          <a:xfrm>
            <a:off x="3582720" y="4286160"/>
            <a:ext cx="34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1.5,0.5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raz 11" descr="Translacja.bmp"/>
          <p:cNvPicPr/>
          <p:nvPr/>
        </p:nvPicPr>
        <p:blipFill>
          <a:blip r:embed="rId1"/>
          <a:stretch/>
        </p:blipFill>
        <p:spPr>
          <a:xfrm>
            <a:off x="628560" y="1995480"/>
            <a:ext cx="8015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anie transform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857160" y="200016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857160" y="2000160"/>
                <a:ext cx="44960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57160" y="2000160"/>
                <a:ext cx="33591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1" name="Obraz 11" descr="RT.bmp"/>
          <p:cNvPicPr/>
          <p:nvPr/>
        </p:nvPicPr>
        <p:blipFill>
          <a:blip r:embed="rId1"/>
          <a:stretch/>
        </p:blipFill>
        <p:spPr>
          <a:xfrm>
            <a:off x="4786200" y="1928880"/>
            <a:ext cx="3143520" cy="180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857160" y="4500720"/>
                <a:ext cx="449424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pole tekstowe 15"/>
          <p:cNvSpPr/>
          <p:nvPr/>
        </p:nvSpPr>
        <p:spPr>
          <a:xfrm>
            <a:off x="527040" y="3929040"/>
            <a:ext cx="75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857160" y="4500720"/>
                <a:ext cx="2766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5" name="Obraz 17" descr="TR.bmp"/>
          <p:cNvPicPr/>
          <p:nvPr/>
        </p:nvPicPr>
        <p:blipFill>
          <a:blip r:embed="rId2"/>
          <a:stretch/>
        </p:blipFill>
        <p:spPr>
          <a:xfrm>
            <a:off x="4786200" y="4500720"/>
            <a:ext cx="312732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ole tekstowe 8"/>
          <p:cNvSpPr/>
          <p:nvPr/>
        </p:nvSpPr>
        <p:spPr>
          <a:xfrm>
            <a:off x="507960" y="3786120"/>
            <a:ext cx="29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428760" y="2428920"/>
            <a:ext cx="8501040" cy="2378520"/>
            <a:chOff x="428760" y="2428920"/>
            <a:chExt cx="8501040" cy="2378520"/>
          </a:xfrm>
        </p:grpSpPr>
        <p:sp>
          <p:nvSpPr>
            <p:cNvPr id="160" name="pole tekstowe 9"/>
            <p:cNvSpPr/>
            <p:nvPr/>
          </p:nvSpPr>
          <p:spPr>
            <a:xfrm>
              <a:off x="513720" y="4286880"/>
              <a:ext cx="299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Rot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45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,1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ymbol zastępczy zawartości 2"/>
            <p:cNvSpPr/>
            <p:nvPr/>
          </p:nvSpPr>
          <p:spPr>
            <a:xfrm>
              <a:off x="428760" y="2428920"/>
              <a:ext cx="8501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Z o 45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14"/>
          <p:cNvGrpSpPr/>
          <p:nvPr/>
        </p:nvGrpSpPr>
        <p:grpSpPr>
          <a:xfrm>
            <a:off x="428760" y="2928960"/>
            <a:ext cx="8501040" cy="2378520"/>
            <a:chOff x="428760" y="2928960"/>
            <a:chExt cx="8501040" cy="2378520"/>
          </a:xfrm>
        </p:grpSpPr>
        <p:sp>
          <p:nvSpPr>
            <p:cNvPr id="163" name="pole tekstowe 10"/>
            <p:cNvSpPr/>
            <p:nvPr/>
          </p:nvSpPr>
          <p:spPr>
            <a:xfrm>
              <a:off x="508680" y="4786920"/>
              <a:ext cx="30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Transl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-2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ymbol zastępczy zawartości 2"/>
            <p:cNvSpPr/>
            <p:nvPr/>
          </p:nvSpPr>
          <p:spPr>
            <a:xfrm>
              <a:off x="428760" y="2928960"/>
              <a:ext cx="8501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  Przesunięcie o wektor  [-2,0,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Obraz 15" descr="TRT0.bmp"/>
          <p:cNvPicPr/>
          <p:nvPr/>
        </p:nvPicPr>
        <p:blipFill>
          <a:blip r:embed="rId1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6" name="Obraz 16" descr="TRT1.bmp"/>
          <p:cNvPicPr/>
          <p:nvPr/>
        </p:nvPicPr>
        <p:blipFill>
          <a:blip r:embed="rId2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7" name="Obraz 17" descr="TRT2.bmp"/>
          <p:cNvPicPr/>
          <p:nvPr/>
        </p:nvPicPr>
        <p:blipFill>
          <a:blip r:embed="rId3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8" name="Obraz 18" descr="TRT3.bmp"/>
          <p:cNvPicPr/>
          <p:nvPr/>
        </p:nvPicPr>
        <p:blipFill>
          <a:blip r:embed="rId4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zawartości 2"/>
          <p:cNvSpPr/>
          <p:nvPr/>
        </p:nvSpPr>
        <p:spPr>
          <a:xfrm>
            <a:off x="428760" y="242892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ymbol zastępczy zawartości 2"/>
          <p:cNvSpPr/>
          <p:nvPr/>
        </p:nvSpPr>
        <p:spPr>
          <a:xfrm>
            <a:off x="428760" y="2928960"/>
            <a:ext cx="8501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 Przesunięcie o wektor  [-2,0,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71680" y="3786120"/>
                <a:ext cx="6481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2286000" y="3786120"/>
                <a:ext cx="47545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2286000" y="3786120"/>
                <a:ext cx="387828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równoległe na płaszczyznę X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Ortho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Symbol zastępczy zawartości 2"/>
          <p:cNvSpPr/>
          <p:nvPr/>
        </p:nvSpPr>
        <p:spPr>
          <a:xfrm>
            <a:off x="428760" y="392904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perspektywiczn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Frustum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Macierz z liczbami"/>
              <p:cNvSpPr txBox="1"/>
              <p:nvPr/>
            </p:nvSpPr>
            <p:spPr>
              <a:xfrm>
                <a:off x="1143000" y="2071800"/>
                <a:ext cx="27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143000" y="4500720"/>
                <a:ext cx="18921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62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leży pamiętać, że macierze w OpenGL zapisywane są kolumnam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r kolumny+rozmiar*nr wiersz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 to, że macie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4286160" y="2500200"/>
                <a:ext cx="1846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pole tekstowe 9"/>
          <p:cNvSpPr/>
          <p:nvPr/>
        </p:nvSpPr>
        <p:spPr>
          <a:xfrm>
            <a:off x="810360" y="4214880"/>
            <a:ext cx="49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my zadeklarować instrukc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13"/>
          <p:cNvSpPr/>
          <p:nvPr/>
        </p:nvSpPr>
        <p:spPr>
          <a:xfrm>
            <a:off x="1232280" y="4726080"/>
            <a:ext cx="426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4][4]={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e tekstowe 14"/>
          <p:cNvSpPr/>
          <p:nvPr/>
        </p:nvSpPr>
        <p:spPr>
          <a:xfrm>
            <a:off x="1200240" y="4711680"/>
            <a:ext cx="437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ole tekstowe 15"/>
          <p:cNvSpPr/>
          <p:nvPr/>
        </p:nvSpPr>
        <p:spPr>
          <a:xfrm>
            <a:off x="6654960" y="5429160"/>
            <a:ext cx="19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chcemy ułatwić sobie życie, możemy zdefiniować funkcję wykonującą transpozycję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000080" y="2428920"/>
                <a:ext cx="4071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42848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*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pozycj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loat* M,int rozmiar=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kolumna=0;kolumna&lt;rozmiar;++kolum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wiersz=kolumna+1;wiersz&lt;rozmiar;++wiers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tmp=M[kolumna+rozmiar*wiersz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kolumna+rozmiar*wiersz]=M[wiersz+rozmiar*kolumna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wiersz+rozmiar*kolumna]=t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1428480"/>
            <a:ext cx="85010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OpenGL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ykonuje mnoż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żącej macierzy M (np. model-widok) przez macierz 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aną w argumencie tj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 → M·H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multiplicatio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upa 8"/>
          <p:cNvGrpSpPr/>
          <p:nvPr/>
        </p:nvGrpSpPr>
        <p:grpSpPr>
          <a:xfrm>
            <a:off x="539280" y="2928960"/>
            <a:ext cx="8149680" cy="2224080"/>
            <a:chOff x="539280" y="2928960"/>
            <a:chExt cx="8149680" cy="2224080"/>
          </a:xfrm>
        </p:grpSpPr>
        <mc:AlternateContent>
          <mc:Choice xmlns:a14="http://schemas.microsoft.com/office/drawing/2010/main" Requires="a14">
            <p:sp>
              <p:nvSpPr>
                <p:cNvPr id="82" name="Object 6"/>
                <p:cNvSpPr txBox="1"/>
                <p:nvPr/>
              </p:nvSpPr>
              <p:spPr>
                <a:xfrm>
                  <a:off x="571320" y="3500280"/>
                  <a:ext cx="167940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" name="pole tekstowe 6"/>
            <p:cNvSpPr/>
            <p:nvPr/>
          </p:nvSpPr>
          <p:spPr>
            <a:xfrm>
              <a:off x="539280" y="2928960"/>
              <a:ext cx="81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ykład użycia – mnożenie przez macierz jednostkow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ole tekstowe 7"/>
          <p:cNvSpPr/>
          <p:nvPr/>
        </p:nvSpPr>
        <p:spPr>
          <a:xfrm>
            <a:off x="2943000" y="35002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10"/>
          <p:cNvSpPr/>
          <p:nvPr/>
        </p:nvSpPr>
        <p:spPr>
          <a:xfrm>
            <a:off x="221400" y="5929200"/>
            <a:ext cx="258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szablonie zmiany wprowadzać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funkcji TForm1::RysujScene 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zed rysowaniem fig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760" y="14288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mnożenia przez macierz I: żadnych zm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8" descr="Szablon.jpg"/>
          <p:cNvPicPr/>
          <p:nvPr/>
        </p:nvPicPr>
        <p:blipFill>
          <a:blip r:embed="rId1"/>
          <a:stretch/>
        </p:blipFill>
        <p:spPr>
          <a:xfrm>
            <a:off x="500040" y="2214720"/>
            <a:ext cx="728676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1T14:34:37Z</dcterms:modified>
  <cp:revision>314</cp:revision>
  <dc:subject/>
  <dc:title>Grafika 3D</dc:title>
</cp:coreProperties>
</file>